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752-2B88-43C9-88F8-AB81128F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C82-87F4-4365-8E0F-E3A8AA51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992-1D57-4DE6-BA2E-DBA95CD2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C80-FA64-48FD-885A-4A42D1A4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6DF-7F0B-419C-BE3B-C1D57CFC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FCD-8832-409C-B342-20E81D94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121-4F17-473F-B45E-96708191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CB9-A1DA-444E-AF19-593EABE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572-9AD8-42CC-B3B9-208F2F6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419-5E4D-4369-9EAF-9C1A3278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14F-D6BC-4CCA-9812-0A84C3D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048-2DC0-43B6-B7B4-40B4882B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09C-D3E7-4943-B60F-CED33E03C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eb.mit.edu/invent/iow/nanda.html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ndahome.com/" TargetMode="External"/><Relationship Id="rId3" Type="http://schemas.openxmlformats.org/officeDocument/2006/relationships/hyperlink" Target="http://nandahom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5029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-0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5238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2">
                    <a:alphaModFix amt="36000"/>
                  </a:blip>
                  <a:srcRect/>
                  <a:stretch/>
                </a:blipFill>
                <a:latin typeface="Impact"/>
              </a:rPr>
              <a:t>Clocky!</a:t>
            </a:r>
            <a:endParaRPr b="0" lang="en-US" sz="1800" spc="1" strike="noStrike"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3">
                  <a:alphaModFix amt="36000"/>
                </a:blip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>
            <a:lum contrast="-4000"/>
          </a:blip>
          <a:srcRect l="32887" t="47361" r="43159" b="26201"/>
          <a:stretch/>
        </p:blipFill>
        <p:spPr>
          <a:xfrm>
            <a:off x="3505320" y="4495680"/>
            <a:ext cx="213336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96252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2485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Nanda"/>
          <p:cNvPicPr/>
          <p:nvPr/>
        </p:nvPicPr>
        <p:blipFill>
          <a:blip r:embed="rId2"/>
          <a:srcRect l="3554" t="3284" r="3941" b="53999"/>
          <a:stretch/>
        </p:blipFill>
        <p:spPr>
          <a:xfrm>
            <a:off x="380880" y="213372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Nanda"/>
          <p:cNvPicPr/>
          <p:nvPr/>
        </p:nvPicPr>
        <p:blipFill>
          <a:blip r:embed="rId3"/>
          <a:srcRect l="4878" t="51567" r="4878" b="5278"/>
          <a:stretch/>
        </p:blipFill>
        <p:spPr>
          <a:xfrm>
            <a:off x="5715000" y="380988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Nanda"/>
          <p:cNvPicPr/>
          <p:nvPr/>
        </p:nvPicPr>
        <p:blipFill>
          <a:blip r:embed="rId4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952880"/>
            <a:ext cx="556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ck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 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eb.mit.edu/invent/iow/nan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514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y is an amazing alarm clock!!!!!!!!!!!!!!!!!!!!!!!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9246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lo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y is an alarm clock that is hard to ignore because of its amazing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locky rings and you hit snooze it will roll off the table and hide somewhere in the room, forcing you to get up and find it when it rings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y is made out of rubber and shock-absorb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y comes in white, blue, mint, and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y was made in 2004 by Gauri N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Gauri N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created Clocky as a practical product assignment in a industrial design co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went to school at Massachusetts Institute of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now owns a business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andahom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also made laptop cozy and to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likes “fixing” things that don’t work very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25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350"/>
                            </p:stCondLst>
                            <p:childTnLst>
                              <p:par>
                                <p:cTn id="1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850"/>
                            </p:stCondLst>
                            <p:childTnLst>
                              <p:par>
                                <p:cTn id="1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4:52Z</dcterms:created>
  <dc:creator>install</dc:creator>
  <dc:description/>
  <dc:language>en-US</dc:language>
  <cp:lastModifiedBy>install</cp:lastModifiedBy>
  <dcterms:modified xsi:type="dcterms:W3CDTF">2011-01-14T16:54:26Z</dcterms:modified>
  <cp:revision>13</cp:revision>
  <dc:subject/>
  <dc:title>Slide 1</dc:title>
</cp:coreProperties>
</file>